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12.wmf" ContentType="image/x-wmf"/>
  <Override PartName="/ppt/media/image9.jpeg" ContentType="image/jpeg"/>
  <Override PartName="/ppt/media/image10.jpeg" ContentType="image/jpeg"/>
  <Override PartName="/ppt/media/image11.wmf" ContentType="image/x-wmf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00850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00400" cy="988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145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Img"/>
          </p:nvPr>
        </p:nvSpPr>
        <p:spPr>
          <a:xfrm>
            <a:off x="888480" y="721800"/>
            <a:ext cx="5024520" cy="37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dt" idx="7"/>
          </p:nvPr>
        </p:nvSpPr>
        <p:spPr>
          <a:xfrm>
            <a:off x="3886200" y="0"/>
            <a:ext cx="29145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381600"/>
            <a:ext cx="291456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6200" y="9381600"/>
            <a:ext cx="291456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5847-131B-4C5F-A552-A5B9C4A5EE1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072D-29DF-44BA-93E9-44056F11599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0E43-A4E0-4282-B52F-4EDDB589D87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03B7-46BC-4C30-8753-8B80316AB60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F9FB-771A-4199-82D2-B1C637121D8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47CD-6EA6-401D-BFFF-4590A4F2B9E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C8B4-0AF3-43BE-8782-673620BCD1E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4E73-8E44-4EFB-B3E5-3B29CA21874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9630-12C9-4DBE-BCB8-B43FEB48F1B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145F-70C8-42D5-AFCC-84420D46CEB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4E7C-7D97-4FDE-82E9-B4AFB701152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44E7-0B76-4D41-854D-3E3EAB1E449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6C13-82E4-47B0-9204-82800FBD69B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8D10-E84B-4D66-A3BF-12DD285118A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9DB5-5DFB-4D9F-97EF-95349A372F6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A3ED-FB82-444C-9209-2915AAC8BB2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114A-E6DA-4E2F-95A9-9912692551B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F66D-3477-4608-AA4D-46954CC97A3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1C91-08F6-434D-9800-B208D65F3F4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1B3D-F5A5-4F61-A252-D30BD66AC20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C803-F2BB-4528-BFA0-6BB1644A539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7CAB-8BB4-4A19-9F29-1FC8DE911C6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73B2-AFC2-4C72-8FD6-21420137C06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4342-460C-4294-A8AF-5E704197040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8606-41C0-40FE-B6B2-D6A6E0ABF46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A77C-4F17-4A7D-96DF-EB81112E775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EB7F-825F-4345-8DAE-7C9650F1EBE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A631-064A-41DB-A99A-EA82B6917F9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F2C5-F3D7-49F4-BB0B-1268BF96463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93B5-443C-48DE-804D-BEFB807E992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888840" y="7221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896400" y="4732200"/>
            <a:ext cx="500724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6200" y="9381960"/>
            <a:ext cx="2914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1464-B8DD-4187-AD68-0D77082D65B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8BD1-CB60-4D95-95B2-FE63967F2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E23E-6A3C-4B2C-87C2-373D20F4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76D3-D6EB-4FC9-A92F-50FC57CB2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1B18-E55E-4ACE-93FD-D92C153EB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F164-91C6-43E5-831D-5DE8C45B7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76D1-A3A4-4152-B639-F3C13F96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8534-E954-4B7C-A74C-45B8D8AE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5CE6-CDD7-4598-AE8B-17AFD842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0F31-5B79-4D83-9453-09482570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947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C12C-DF60-41DA-8A9D-9D8B339D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586A-4469-466E-A8D8-9D91179D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D09A-EF98-44B4-9CC8-63A23A13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93EC-6710-4B9F-ABC7-910400F4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CEDF-BDA9-459A-A59A-DE939FC7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0A65-A173-4DAC-89A4-80FA6A94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CE2B-7CDD-46EA-B16E-32BCE0E24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040F-C34E-4AA3-9196-69E3D91AE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E0B7-A848-4286-8975-816D428E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23AB-0BE1-4767-8EF5-7AEB6B05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93B4-8E47-4EE2-B65B-9D10E574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947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D058-9B38-4BD6-9CBC-01CC132C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A8BC-316E-4B6E-A96D-41D56026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DD9A-4F72-4128-A0B9-DE6BC947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E46C-AD25-41B7-A55F-D4856012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29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BBCF-4B20-492F-BE3A-AF233FA31DCE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DB93-0CE0-4C46-B692-F610AE845DEF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siness.salford.ac.uk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528720" y="2738160"/>
            <a:ext cx="48006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34920" y="4723920"/>
            <a:ext cx="5041800" cy="95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sto MT"/>
                <a:ea typeface="宋体"/>
              </a:rPr>
              <a:t>Dr Richard Li-Hu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sto MT"/>
                <a:ea typeface="宋体"/>
              </a:rPr>
              <a:t>Salford Business School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sto MT"/>
                <a:ea typeface="宋体"/>
              </a:rPr>
              <a:t>University of Salford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826920" y="328464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pportunities and Challenges in International Technology Transfer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1371600" y="895320"/>
            <a:ext cx="7315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4643280" y="1518840"/>
            <a:ext cx="4032360" cy="8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334800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334800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334800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334800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334800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-45720" bIns="-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4" descr="Salfor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5805360"/>
            <a:ext cx="3924360" cy="836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8" descr="logo"/>
          <p:cNvPicPr/>
          <p:nvPr/>
        </p:nvPicPr>
        <p:blipFill>
          <a:blip r:embed="rId3"/>
          <a:stretch/>
        </p:blipFill>
        <p:spPr>
          <a:xfrm>
            <a:off x="5435640" y="5732640"/>
            <a:ext cx="3708360" cy="9111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5"/>
          <p:cNvSpPr/>
          <p:nvPr/>
        </p:nvSpPr>
        <p:spPr>
          <a:xfrm>
            <a:off x="1979640" y="1341360"/>
            <a:ext cx="489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201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ternat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echnology Transfer Workshop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chool of Economy and Management, Tsinghua  University,  1st, December,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图片 19" descr="logo.png"/>
          <p:cNvPicPr/>
          <p:nvPr/>
        </p:nvPicPr>
        <p:blipFill>
          <a:blip r:embed="rId4"/>
          <a:stretch/>
        </p:blipFill>
        <p:spPr>
          <a:xfrm>
            <a:off x="-181080" y="0"/>
            <a:ext cx="4681800" cy="1125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"/>
          <p:cNvPicPr/>
          <p:nvPr/>
        </p:nvPicPr>
        <p:blipFill>
          <a:blip r:embed="rId5"/>
          <a:stretch/>
        </p:blipFill>
        <p:spPr>
          <a:xfrm>
            <a:off x="4500720" y="0"/>
            <a:ext cx="4643280" cy="1197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6000" y="620640"/>
            <a:ext cx="77947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orld Bank &amp; Technology Transf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One of major organizations which are most interested in technology transfe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meaningful partnership between foreign and local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sing international consultancy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Support setting up joint venture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Explicit policy adopted in 1993: no technology  </a:t>
            </a:r>
            <a:br>
              <a:rPr sz="2400"/>
            </a:br>
            <a:r>
              <a:rPr b="0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transfer, no meaningful partnerships with local</a:t>
            </a:r>
            <a:br>
              <a:rPr sz="2400"/>
            </a:br>
            <a:r>
              <a:rPr b="0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companies, the result will be no contrac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However, WB has not established mechanisms to </a:t>
            </a:r>
            <a:br>
              <a:rPr sz="2400"/>
            </a:br>
            <a:r>
              <a:rPr b="0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ensure real technology transf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280" y="620640"/>
            <a:ext cx="815508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echnology Transfer Hurdles: Separation between Technology and Knowled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echnology transfer has been less attended since 80s, e.g. less funding, less research, less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oo much focuses on high-tech or high end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ershadowed by inno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paration between technology and knowledge threats people in technology transfer practice and keeps researchers away from technology transfer re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rong illusion - knowledge management and knowledge transfer seems more popular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143000" y="1676520"/>
            <a:ext cx="769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71680" y="214200"/>
            <a:ext cx="8076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 Basic Model of Technology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Object 4"/>
          <p:cNvGraphicFramePr/>
          <p:nvPr/>
        </p:nvGraphicFramePr>
        <p:xfrm>
          <a:off x="228600" y="990720"/>
          <a:ext cx="891540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91540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Factors Influencing the Strategies of Technology Transf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09400" y="201780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Oval 5"/>
          <p:cNvSpPr/>
          <p:nvPr/>
        </p:nvSpPr>
        <p:spPr>
          <a:xfrm>
            <a:off x="2843280" y="1989000"/>
            <a:ext cx="2690640" cy="1676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ransferor characteristic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Form si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lobal 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ultural and geograph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istance from receiv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u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6"/>
          <p:cNvSpPr/>
          <p:nvPr/>
        </p:nvSpPr>
        <p:spPr>
          <a:xfrm>
            <a:off x="5148360" y="3068640"/>
            <a:ext cx="2879640" cy="14400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echnology characteris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ophist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7"/>
          <p:cNvSpPr/>
          <p:nvPr/>
        </p:nvSpPr>
        <p:spPr>
          <a:xfrm>
            <a:off x="250920" y="3141720"/>
            <a:ext cx="3025800" cy="1384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Receiving country characteristic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nvestment poli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echnical absorptive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8"/>
          <p:cNvSpPr/>
          <p:nvPr/>
        </p:nvSpPr>
        <p:spPr>
          <a:xfrm>
            <a:off x="2843280" y="5157720"/>
            <a:ext cx="2736720" cy="1440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de and strateg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f technology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4140360" y="37162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"/>
          <p:cNvSpPr/>
          <p:nvPr/>
        </p:nvSpPr>
        <p:spPr>
          <a:xfrm flipH="1">
            <a:off x="4932360" y="4292640"/>
            <a:ext cx="720720" cy="93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2484360" y="4437000"/>
            <a:ext cx="792360" cy="897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947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Technology S-Curv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34696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oth the rate of a technology’s improvement and its rate of diffusion to the market typically follow an s-shaped cur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ajor reference for technology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-curves in Technological Improv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4" descr="fig 3-1"/>
          <p:cNvPicPr/>
          <p:nvPr/>
        </p:nvPicPr>
        <p:blipFill>
          <a:blip r:embed="rId1"/>
          <a:stretch/>
        </p:blipFill>
        <p:spPr>
          <a:xfrm>
            <a:off x="601560" y="3687840"/>
            <a:ext cx="4348440" cy="26254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5092560" y="3618000"/>
            <a:ext cx="3587760" cy="26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echnology improves slowly at first because it is poorly understood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n accelerates as understanding increas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n tapers off as approaches limit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6000" y="620640"/>
            <a:ext cx="77947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hallenges and Barriers of Technology Transf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632720" cy="4248360"/>
          </a:xfrm>
          <a:prstGeom prst="rect">
            <a:avLst/>
          </a:prstGeom>
          <a:ln w="0">
            <a:noFill/>
          </a:ln>
        </p:spPr>
      </p:pic>
      <p:sp>
        <p:nvSpPr>
          <p:cNvPr id="169" name="TextBox 3"/>
          <p:cNvSpPr/>
          <p:nvPr/>
        </p:nvSpPr>
        <p:spPr>
          <a:xfrm>
            <a:off x="1042920" y="6308640"/>
            <a:ext cx="32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Cummings and Teng, 20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027"/>
          <p:cNvSpPr/>
          <p:nvPr/>
        </p:nvSpPr>
        <p:spPr>
          <a:xfrm>
            <a:off x="684360" y="262080"/>
            <a:ext cx="7848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rom Technology Transfer to Knowledge Transf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1028"/>
          <p:cNvSpPr/>
          <p:nvPr/>
        </p:nvSpPr>
        <p:spPr>
          <a:xfrm>
            <a:off x="4952880" y="4267080"/>
            <a:ext cx="3810240" cy="1825920"/>
          </a:xfrm>
          <a:prstGeom prst="wedgeRectCallout">
            <a:avLst>
              <a:gd name="adj1" fmla="val -80791"/>
              <a:gd name="adj2" fmla="val 45643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??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??"/>
              </a:rPr>
              <a:t>Technology transfer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??"/>
              </a:rPr>
              <a:t>take place without knowled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??"/>
              </a:rPr>
              <a:t>transfer, as knowledge is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??"/>
              </a:rPr>
              <a:t>key to control technolo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??"/>
              </a:rPr>
              <a:t>as a whole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029"/>
          <p:cNvSpPr/>
          <p:nvPr/>
        </p:nvSpPr>
        <p:spPr>
          <a:xfrm>
            <a:off x="838080" y="1981080"/>
            <a:ext cx="9907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030"/>
          <p:cNvSpPr/>
          <p:nvPr/>
        </p:nvSpPr>
        <p:spPr>
          <a:xfrm>
            <a:off x="2438280" y="1981080"/>
            <a:ext cx="1067040" cy="82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ory and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31"/>
          <p:cNvSpPr/>
          <p:nvPr/>
        </p:nvSpPr>
        <p:spPr>
          <a:xfrm>
            <a:off x="4191120" y="1981080"/>
            <a:ext cx="3276360" cy="82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iscover that sustainable technology transfer cannot happen without knowledge 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032"/>
          <p:cNvSpPr/>
          <p:nvPr/>
        </p:nvSpPr>
        <p:spPr>
          <a:xfrm>
            <a:off x="838080" y="3048120"/>
            <a:ext cx="2971800" cy="82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iscover that explicit knowledge is easy to track but not only part of knowledge 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033"/>
          <p:cNvSpPr/>
          <p:nvPr/>
        </p:nvSpPr>
        <p:spPr>
          <a:xfrm>
            <a:off x="4343400" y="3048120"/>
            <a:ext cx="1828800" cy="82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stablish importance of tacit knowledge 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034"/>
          <p:cNvSpPr/>
          <p:nvPr/>
        </p:nvSpPr>
        <p:spPr>
          <a:xfrm>
            <a:off x="838080" y="4267080"/>
            <a:ext cx="3200400" cy="82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evelop model for improving tacit knowledge transfer as it deliver the most competitive advan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036"/>
          <p:cNvSpPr/>
          <p:nvPr/>
        </p:nvSpPr>
        <p:spPr>
          <a:xfrm>
            <a:off x="1828800" y="2438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037"/>
          <p:cNvSpPr/>
          <p:nvPr/>
        </p:nvSpPr>
        <p:spPr>
          <a:xfrm>
            <a:off x="3505320" y="2438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038"/>
          <p:cNvSpPr/>
          <p:nvPr/>
        </p:nvSpPr>
        <p:spPr>
          <a:xfrm>
            <a:off x="38098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039"/>
          <p:cNvSpPr/>
          <p:nvPr/>
        </p:nvSpPr>
        <p:spPr>
          <a:xfrm>
            <a:off x="6172200" y="34290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040"/>
          <p:cNvSpPr/>
          <p:nvPr/>
        </p:nvSpPr>
        <p:spPr>
          <a:xfrm>
            <a:off x="7467480" y="23623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41"/>
          <p:cNvSpPr/>
          <p:nvPr/>
        </p:nvSpPr>
        <p:spPr>
          <a:xfrm>
            <a:off x="4067280" y="4797360"/>
            <a:ext cx="64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15"/>
          <p:cNvSpPr/>
          <p:nvPr/>
        </p:nvSpPr>
        <p:spPr>
          <a:xfrm>
            <a:off x="900000" y="566100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Li-Hua,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33520" y="1752120"/>
            <a:ext cx="37512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What is technolog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“</a:t>
            </a:r>
            <a:r>
              <a:rPr b="0" lang="en-GB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The combination of hum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understanding of natural laws and phenomena accumulated since ancient times to make things that fulfil our needs and desires.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Techniq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Organis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Product (Four closely-linked element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1027"/>
          <p:cNvSpPr/>
          <p:nvPr/>
        </p:nvSpPr>
        <p:spPr>
          <a:xfrm>
            <a:off x="838080" y="533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stinction between Technology and Knowled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028"/>
          <p:cNvSpPr/>
          <p:nvPr/>
        </p:nvSpPr>
        <p:spPr>
          <a:xfrm>
            <a:off x="4495680" y="1811520"/>
            <a:ext cx="429264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imes New Roman"/>
              </a:rPr>
              <a:t>What is knowledg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ledge is a fluid mix of framed experience, values, contextual information, and expert insight that provide a framework for evaluating and incorporating new experiences and information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Tr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Belie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Conce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Judg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Expec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Method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Know-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29" descr="LH RH Brain 1"/>
          <p:cNvPicPr/>
          <p:nvPr/>
        </p:nvPicPr>
        <p:blipFill>
          <a:blip r:embed="rId1"/>
          <a:stretch/>
        </p:blipFill>
        <p:spPr>
          <a:xfrm>
            <a:off x="6248520" y="3733920"/>
            <a:ext cx="2895480" cy="31240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Picture 9" descr="Bird's Nest Speaker (R-MN-8000)"/>
          <p:cNvPicPr/>
          <p:nvPr/>
        </p:nvPicPr>
        <p:blipFill>
          <a:blip r:embed="rId2"/>
          <a:stretch/>
        </p:blipFill>
        <p:spPr>
          <a:xfrm>
            <a:off x="0" y="4869000"/>
            <a:ext cx="4500720" cy="1989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页脚占位符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Dr Richard Li-Hua@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50720" y="620640"/>
            <a:ext cx="725940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Forms of Knowledge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46850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xplici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odified in blueprints, designs, drawings and specific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Knowledge of rationality (min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Sequential knowledge (there and the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igital knowledge (theor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ac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Uncodified, kept in human brain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Knowledge of experience (bod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Simultaneous knowledge (here and now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nalogy knowledge (practic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5867280" y="2637000"/>
            <a:ext cx="27370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know more than we can tell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anyi, M. 19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Object 5" descr=""/>
          <p:cNvPicPr/>
          <p:nvPr/>
        </p:nvPicPr>
        <p:blipFill>
          <a:blip r:embed="rId1"/>
          <a:stretch/>
        </p:blipFill>
        <p:spPr>
          <a:xfrm>
            <a:off x="6570720" y="4267080"/>
            <a:ext cx="1125360" cy="1536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77947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Categories of Tacit Knowledg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rd to pin down skills-”know how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he skills that people need to repeatedly practice and feedback and get the feel for th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ntal models or sch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How we understand cause-effect connections and what meaning we give to ev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ys of approaching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acit knowledge underlines the decision trees people us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ganisational rout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outine refers to regular and predictable behaviour patterns, including ways of producing things, ways of hiring and firing personnel, ways of handling inventory, decision-making procedures, advertising policy and R&amp;D procedures, et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920" y="764640"/>
            <a:ext cx="779472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Technology Transfer: Hidden Competitive Advantage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ful technology transfer will translate a firm’s technology strategy into achievable objectives that enable firms to leverage their technology and knowledge to gain sustainable competitive advantage in the global mar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evident that the major technology management activities in the evolution phases of multinational companies focus on “technology transfer”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arning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ilt-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ationalizatio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obalizatio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obal dominant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57340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lationship (notional hypotheses) between knowledge transfer and economic growth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09400" y="201780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971640" y="692280"/>
            <a:ext cx="76197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lationship between Knowledge Transfer and Economic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1905120" y="3708360"/>
            <a:ext cx="6324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7"/>
          <p:cNvSpPr/>
          <p:nvPr/>
        </p:nvSpPr>
        <p:spPr>
          <a:xfrm flipV="1">
            <a:off x="3505320" y="2666520"/>
            <a:ext cx="1981080" cy="2514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8"/>
          <p:cNvSpPr/>
          <p:nvPr/>
        </p:nvSpPr>
        <p:spPr>
          <a:xfrm>
            <a:off x="5486400" y="2666880"/>
            <a:ext cx="1676520" cy="2514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9"/>
          <p:cNvSpPr/>
          <p:nvPr/>
        </p:nvSpPr>
        <p:spPr>
          <a:xfrm>
            <a:off x="3505320" y="5181480"/>
            <a:ext cx="36576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0"/>
          <p:cNvSpPr/>
          <p:nvPr/>
        </p:nvSpPr>
        <p:spPr>
          <a:xfrm flipH="1" flipV="1">
            <a:off x="5866920" y="2666520"/>
            <a:ext cx="1752840" cy="2590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6400800" y="2616480"/>
            <a:ext cx="2514600" cy="8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mand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nowledge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3886200" y="27115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iangs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3429000" y="354960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en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2133720" y="469260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iangji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380880" y="2466000"/>
            <a:ext cx="311148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e are features of knowledge transfer that appear to be associated with levels of economic development. Certain aspects of knowledge transfer is paralleled by the notional line of economic develop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WordArt 19"/>
          <p:cNvSpPr txBox="1"/>
          <p:nvPr/>
        </p:nvSpPr>
        <p:spPr>
          <a:xfrm>
            <a:off x="4343400" y="4191120"/>
            <a:ext cx="2133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conomy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594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lationship (notional hypotheses) between tacit knowledge transfer and explicit knowledge transfer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09400" y="201780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457200" y="404640"/>
            <a:ext cx="836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lationship between Transfer of Explicit Knowledge and Tacit Knowled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5"/>
          <p:cNvSpPr/>
          <p:nvPr/>
        </p:nvSpPr>
        <p:spPr>
          <a:xfrm flipV="1">
            <a:off x="3809880" y="2133720"/>
            <a:ext cx="0" cy="2743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3809880" y="4876920"/>
            <a:ext cx="3276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 flipH="1">
            <a:off x="4114800" y="2743200"/>
            <a:ext cx="2286000" cy="182880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8"/>
          <p:cNvSpPr/>
          <p:nvPr/>
        </p:nvSpPr>
        <p:spPr>
          <a:xfrm>
            <a:off x="4211640" y="2708280"/>
            <a:ext cx="2286000" cy="1752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6477120" y="2515320"/>
            <a:ext cx="1752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 for tacit 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6477120" y="4061520"/>
            <a:ext cx="205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 for explicit 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3962520" y="4953960"/>
            <a:ext cx="3886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vels of economic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3733920" y="5227560"/>
            <a:ext cx="373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injiang          Henan            Jiangs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3962520" y="1842480"/>
            <a:ext cx="243828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 for knowledge transf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468360" y="2637720"/>
            <a:ext cx="2743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more demand for tacit knowledge transfer in well developed region while there is more demand for explicit knowledge in less developed reg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7"/>
          <p:cNvSpPr/>
          <p:nvPr/>
        </p:nvSpPr>
        <p:spPr>
          <a:xfrm>
            <a:off x="6373800" y="270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4360" y="2133720"/>
            <a:ext cx="77724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  <a:ea typeface="宋体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409400" y="201780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914400" y="974880"/>
            <a:ext cx="7543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ppropriateness and Effective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685800" y="1844640"/>
            <a:ext cx="7848720" cy="3097080"/>
          </a:xfrm>
          <a:prstGeom prst="wedgeRectCallout">
            <a:avLst>
              <a:gd name="adj1" fmla="val 648"/>
              <a:gd name="adj2" fmla="val 89750"/>
            </a:avLst>
          </a:prstGeom>
          <a:solidFill>
            <a:srgbClr val="86db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Knowledge transfer is not obtainab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f there is too big gap in terms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conomic development between transfer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nd transferee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733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  <a:ea typeface="宋体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09400" y="201780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914400" y="662400"/>
            <a:ext cx="7772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ult of Intimate Human Interaction in International Joint Ven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762120" y="5423400"/>
            <a:ext cx="761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of management know-how, explicit knowledge and tacit knowledge – Xiaolangdi experiences (Li-Hua, 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209680" y="2300040"/>
            <a:ext cx="1828800" cy="519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ig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4952880" y="2311920"/>
            <a:ext cx="2057400" cy="519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2209680" y="38988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209680" y="4052880"/>
            <a:ext cx="1828800" cy="519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ig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4952880" y="431316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4952880" y="4046400"/>
            <a:ext cx="2057400" cy="519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>
            <a:off x="4038480" y="2514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6"/>
          <p:cNvSpPr/>
          <p:nvPr/>
        </p:nvSpPr>
        <p:spPr>
          <a:xfrm flipH="1">
            <a:off x="4038120" y="25146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7"/>
          <p:cNvSpPr/>
          <p:nvPr/>
        </p:nvSpPr>
        <p:spPr>
          <a:xfrm>
            <a:off x="4038480" y="42670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8"/>
          <p:cNvSpPr/>
          <p:nvPr/>
        </p:nvSpPr>
        <p:spPr>
          <a:xfrm flipH="1">
            <a:off x="4038120" y="42670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9"/>
          <p:cNvSpPr/>
          <p:nvPr/>
        </p:nvSpPr>
        <p:spPr>
          <a:xfrm flipH="1">
            <a:off x="4038480" y="2819520"/>
            <a:ext cx="9144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20"/>
          <p:cNvSpPr/>
          <p:nvPr/>
        </p:nvSpPr>
        <p:spPr>
          <a:xfrm flipV="1">
            <a:off x="4724280" y="28195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21"/>
          <p:cNvSpPr/>
          <p:nvPr/>
        </p:nvSpPr>
        <p:spPr>
          <a:xfrm>
            <a:off x="4038480" y="2819520"/>
            <a:ext cx="9144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2"/>
          <p:cNvSpPr/>
          <p:nvPr/>
        </p:nvSpPr>
        <p:spPr>
          <a:xfrm flipH="1" flipV="1">
            <a:off x="4038120" y="28195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23"/>
          <p:cNvSpPr/>
          <p:nvPr/>
        </p:nvSpPr>
        <p:spPr>
          <a:xfrm>
            <a:off x="304812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24"/>
          <p:cNvSpPr/>
          <p:nvPr/>
        </p:nvSpPr>
        <p:spPr>
          <a:xfrm flipV="1">
            <a:off x="3048120" y="2819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25"/>
          <p:cNvSpPr/>
          <p:nvPr/>
        </p:nvSpPr>
        <p:spPr>
          <a:xfrm>
            <a:off x="601992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27"/>
          <p:cNvSpPr/>
          <p:nvPr/>
        </p:nvSpPr>
        <p:spPr>
          <a:xfrm flipV="1">
            <a:off x="6019920" y="28191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28"/>
          <p:cNvSpPr/>
          <p:nvPr/>
        </p:nvSpPr>
        <p:spPr>
          <a:xfrm>
            <a:off x="1600200" y="4838400"/>
            <a:ext cx="632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patterns of dyadic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Object 0"/>
          <p:cNvGraphicFramePr/>
          <p:nvPr/>
        </p:nvGraphicFramePr>
        <p:xfrm>
          <a:off x="250920" y="614520"/>
          <a:ext cx="8713800" cy="6035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5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614520"/>
                    <a:ext cx="8713800" cy="60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755640" y="191628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imes New Roman"/>
                <a:ea typeface="宋体"/>
              </a:rPr>
              <a:t>Knowledge</a:t>
            </a:r>
            <a:r>
              <a:rPr b="0" lang="en-US" sz="2800" spc="-1" strike="noStrike">
                <a:solidFill>
                  <a:srgbClr val="1c1c1c"/>
                </a:solidFill>
                <a:latin typeface="Times New Roman"/>
                <a:ea typeface="宋体"/>
              </a:rPr>
              <a:t>, in particular 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  <a:ea typeface="宋体"/>
              </a:rPr>
              <a:t>tacit knowledge</a:t>
            </a:r>
            <a:r>
              <a:rPr b="0" lang="en-US" sz="2800" spc="-1" strike="noStrike">
                <a:solidFill>
                  <a:srgbClr val="1c1c1c"/>
                </a:solidFill>
                <a:latin typeface="Times New Roman"/>
                <a:ea typeface="宋体"/>
              </a:rPr>
              <a:t> that are the keys often to deliver the sustainable competitive advantage because it is this part that competitors have trouble in replica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  <a:ea typeface="宋体"/>
              </a:rPr>
              <a:t>To provide sustained competitive advantage, one needs 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  <a:ea typeface="宋体"/>
              </a:rPr>
              <a:t>tacit knowledge</a:t>
            </a:r>
            <a:r>
              <a:rPr b="0" lang="en-US" sz="2800" spc="-1" strike="noStrike">
                <a:solidFill>
                  <a:srgbClr val="1c1c1c"/>
                </a:solidFill>
                <a:latin typeface="Times New Roman"/>
                <a:ea typeface="宋体"/>
              </a:rPr>
              <a:t> that is difficult for outsiders to copy as well as the ability to rapidly develop new knowled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838080" y="533520"/>
            <a:ext cx="575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cit Knowledge Trans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838080" y="533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roblem Area: Channel Blockage of Tacit Knowledge Trans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762120" y="988560"/>
            <a:ext cx="7238880" cy="22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04920" y="3968640"/>
            <a:ext cx="1143000" cy="366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1676520" y="4997160"/>
            <a:ext cx="1447560" cy="366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676520" y="2833560"/>
            <a:ext cx="1447560" cy="366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3429000" y="3962880"/>
            <a:ext cx="1447920" cy="397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4267080" y="5022000"/>
            <a:ext cx="1447920" cy="509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c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4267080" y="2831400"/>
            <a:ext cx="1447920" cy="509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ic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6553080" y="2910600"/>
            <a:ext cx="1447920" cy="366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need to 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6553080" y="3900600"/>
            <a:ext cx="1447920" cy="366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6553080" y="4967280"/>
            <a:ext cx="1447920" cy="366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 to 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1676520" y="3962880"/>
            <a:ext cx="1447560" cy="397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4"/>
          <p:cNvSpPr/>
          <p:nvPr/>
        </p:nvSpPr>
        <p:spPr>
          <a:xfrm flipV="1">
            <a:off x="2362320" y="441936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5"/>
          <p:cNvSpPr/>
          <p:nvPr/>
        </p:nvSpPr>
        <p:spPr>
          <a:xfrm>
            <a:off x="2362320" y="32004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1447920" y="41148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3124080" y="4038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8"/>
          <p:cNvSpPr/>
          <p:nvPr/>
        </p:nvSpPr>
        <p:spPr>
          <a:xfrm flipH="1">
            <a:off x="3200040" y="4267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9"/>
          <p:cNvSpPr/>
          <p:nvPr/>
        </p:nvSpPr>
        <p:spPr>
          <a:xfrm flipV="1">
            <a:off x="3733920" y="312372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3733920" y="3124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3733920" y="44197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22"/>
          <p:cNvSpPr/>
          <p:nvPr/>
        </p:nvSpPr>
        <p:spPr>
          <a:xfrm>
            <a:off x="373392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3"/>
          <p:cNvSpPr/>
          <p:nvPr/>
        </p:nvSpPr>
        <p:spPr>
          <a:xfrm>
            <a:off x="5715000" y="31240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24"/>
          <p:cNvSpPr/>
          <p:nvPr/>
        </p:nvSpPr>
        <p:spPr>
          <a:xfrm>
            <a:off x="5715000" y="5257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5"/>
          <p:cNvSpPr/>
          <p:nvPr/>
        </p:nvSpPr>
        <p:spPr>
          <a:xfrm>
            <a:off x="7238880" y="32767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26"/>
          <p:cNvSpPr/>
          <p:nvPr/>
        </p:nvSpPr>
        <p:spPr>
          <a:xfrm flipV="1">
            <a:off x="7238880" y="434304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27"/>
          <p:cNvSpPr/>
          <p:nvPr/>
        </p:nvSpPr>
        <p:spPr>
          <a:xfrm>
            <a:off x="5791320" y="5661000"/>
            <a:ext cx="2165400" cy="936720"/>
          </a:xfrm>
          <a:prstGeom prst="wedgeRectCallout">
            <a:avLst>
              <a:gd name="adj1" fmla="val -31703"/>
              <a:gd name="adj2" fmla="val -9242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nnel block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-blockag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P strategy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755640" y="1773360"/>
            <a:ext cx="8199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At institutional level: A strong IP framework and appropriate IP strategy are essential in achieving tacit knowledge transf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However at personal level, the following elements are importan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Trust and friendly relationship buil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Motivation of knowledge transf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Share a vision of future and develop a knowledge-sharing cul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Be aware of motivators and barri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Think globally and act loc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Effective and appropriate commun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Cross-culture team buil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Deal with defensive mechanis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Text Box 1027"/>
          <p:cNvSpPr/>
          <p:nvPr/>
        </p:nvSpPr>
        <p:spPr>
          <a:xfrm>
            <a:off x="838080" y="7621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cit Knowledge Transfer Is Achievable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6920" y="213840"/>
            <a:ext cx="81187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Un-blockage of Tacit knowledge Transfer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770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major concern is if technology transfer leverages the innovation capacity building, however the blockage of tacit knowledge transfer has to be properly addr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ening IP framework and appropriate IP strategy wil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lerate the transfer of technology between the developed and the developing a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ce more technological innovation in the global econom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P Strategy channels smooth technology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Conclusion and Implication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echnology transfer presents both opportunities and challenges to the transferor and the transfe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t is not surprising that the channel of technology transfer is blocked due to fear of losing competitive advantage. However IP strategy is a key to un-block the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ithout a strong IP system, technology transfer is not achiev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P strategy leverages economic growth and development in both developed and developing count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t charts the strategic and operational guidance to achieve competitive advantage not only for the transferor but also for the transfe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ppropriate IPR strategy represents a solid foundation on which knowledge economy can be bui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7794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pportunities and Challenges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827064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echnology transfer offers a win-win solution for both the transferor and the transfere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lobalization affects each country in a different way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developed countries can obtain huge marketplace for their surplus producing power by selling goods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ransferring technolog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by setting up joint venture etc, while the developing countries can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quire advanced technology and knowled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by offering new market opportunities and providing human resources and raw material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3060720" cy="76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ibliography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05968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Bennet, D., Zhao, H.Y., Vaigya, K., and Wang, X.M., 1997, </a:t>
            </a:r>
            <a:r>
              <a:rPr b="0" i="1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Transferring Manufacturing Technology to China: Supplier Perceptions and Acquirer Expectations</a:t>
            </a: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, Integrated Manufacturing System, MCB University Press, ISSN 0957-60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Cummings, J., and Teng, B.S., 2003, </a:t>
            </a:r>
            <a:r>
              <a:rPr b="0" i="1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Transferring R&amp;D Knowledge: the Key Factors Affecting Knowledge Transfer Success</a:t>
            </a: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, Journal of Engineering and Technology Management, JET-M, ELSEVI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Egbu, C., </a:t>
            </a:r>
            <a:r>
              <a:rPr b="0" i="1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Knowledge Management in Construction SMEs: Coping with the Issues of Structure, Culture, Commitment and Motivat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Hofstede, G., 1980, </a:t>
            </a:r>
            <a:r>
              <a:rPr b="0" i="1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Culture’s Consequences: international Differences in Work-related Values</a:t>
            </a: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  Beverly Hills, CA:Sag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Jasinski, A. H., 2005, </a:t>
            </a:r>
            <a:r>
              <a:rPr b="0" i="1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Barriers for Technology Transfer in Transition Economics: Results of Empirical Studies,</a:t>
            </a: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 Conference Proceedings of Economic and Technological Dimension of National Innovation Systems, Warsaw, 200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Johnson, G., and Scholes., 1997, </a:t>
            </a:r>
            <a:r>
              <a:rPr b="0" i="1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Exploring Corporate Strategy - Text and Cases</a:t>
            </a: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 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Li-Hua, R., 2004, </a:t>
            </a:r>
            <a:r>
              <a:rPr b="0" i="1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Technology and Knowledge Transfer in China</a:t>
            </a: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 Ashgate Publish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Li-Hua, R., 2006, </a:t>
            </a:r>
            <a:r>
              <a:rPr b="0" i="1" lang="en-GB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Examining the Appropriateness and Effectiveness of Technology Transfer in China</a:t>
            </a:r>
            <a:r>
              <a:rPr b="0" lang="en-GB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, Journal of Technology Transfer in China, Volume 1, Issue 2, Emerald Insigh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Lubit, R., 2001, </a:t>
            </a:r>
            <a:r>
              <a:rPr b="0" i="1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Tacit Knowledge and Knowledge Management: Keys to Sustainable Competitive Advantag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Lynch, R., 2000, </a:t>
            </a:r>
            <a:r>
              <a:rPr b="0" i="1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Corporate Strategy</a:t>
            </a: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  Financial Times  Prentice Ha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McAulay, L., Russell, G., and Sims, J., 1997,  </a:t>
            </a:r>
            <a:r>
              <a:rPr b="0" i="1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Tacit Knowledge for Competitive Advantage</a:t>
            </a: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  Management Accounting (British), Volue 75 No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Polanyi, M., 1967, </a:t>
            </a:r>
            <a:r>
              <a:rPr b="0" i="1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The Tacit Dimension</a:t>
            </a: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  Routledge &amp; Kegan Paul Lt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Renzl, B., 2006, </a:t>
            </a:r>
            <a:r>
              <a:rPr b="0" i="1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Trust in Management and Knowledge Sharing: The Mediating Effects of Fear and Knowledge Documentation</a:t>
            </a: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, Science Direct, ELSEVI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Stonehouse, G., Hamill, J., Cambell, D., and Purdie, T., 2000, </a:t>
            </a:r>
            <a:r>
              <a:rPr b="0" i="1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Global and Transnational Business - Strategy and Management</a:t>
            </a: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  John Wiley &amp; Sons, Lt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Thompson, A., and Strickland, A., 1998,</a:t>
            </a:r>
            <a:r>
              <a:rPr b="0" i="1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 Strategic Management Concept and Cases, </a:t>
            </a:r>
            <a:r>
              <a:rPr b="0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Irwin McGraw-Hil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7794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pportunities and Challenges (cont’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827064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echnology-driven industry creates technological changes through disruptive inno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our dimensions of innovation: product versus process; radical versus incremental; competence enhancing versus competence destroying; architectural versus compon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o countless innovation projects are imitation, absorption, adaptation, improvement, reconfiguration, modification, or re-branding of existing technology, or successful transfer of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power of steady stream of innovative ideas and emerging technologies, in particular, ITT, present considerable opportunities and challe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6000" y="620640"/>
            <a:ext cx="77947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echnology Transfer in the Current Recession – A Win-win Strateg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827064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urrent recession increases the unemployment and panic in the developed countries, such as, US, European count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o protect its employment rate and safe guard its economy by transferring technolog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emerging economic power, such as, China, India, etc. who are seeking innovation framework, new technology or knowledge for developing new mode for economic growth or system for sustain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t repeats what happened in 1970 where the developed wanted to sell technology for profit while the developing wanted to buy technology  for solving the problem of economic grow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3745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veloped countr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ncern on proper  protection of Intellectual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ncertainty of IP in the developing countri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P infrin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plication is a normal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826920" y="4762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chnology Transfer Dilemma between Developed and Developing Wor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4643280" y="1844640"/>
            <a:ext cx="39610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ing count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ney was paid to purchase advanced technology, but ended only with second hand equipment and old fashioned techn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racts of technology transfer were signed, however, key technology was not secu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ants were closed due to improper technology transfer or no transf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826920" y="188640"/>
            <a:ext cx="81187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4360" y="1773000"/>
            <a:ext cx="8270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A crucial and dynamic factor in social and economic development and a short-cut not only to the developing countries but also to the developed countrie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Close relationship between technology transfer and economic growth and achieving competitive advantag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International business strategie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National technology strategy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  <a:ea typeface="宋体"/>
              </a:rPr>
              <a:t>Value-added in each process of transf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838080" y="5335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gnificance of Technology Trans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663480" y="44164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609480" y="2362320"/>
            <a:ext cx="8077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Object 5"/>
          <p:cNvGraphicFramePr/>
          <p:nvPr/>
        </p:nvGraphicFramePr>
        <p:xfrm>
          <a:off x="609480" y="765000"/>
          <a:ext cx="7923240" cy="5508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765000"/>
                    <a:ext cx="792324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Box 5"/>
          <p:cNvSpPr/>
          <p:nvPr/>
        </p:nvSpPr>
        <p:spPr>
          <a:xfrm>
            <a:off x="611280" y="47628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echnology Transfer:  The Major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7766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lows of technological knowledge to marke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movement of science and technology from one group to another group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transfer of hardware objectives, traditionall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 often involves information (e.g. a computer software programme or a new idea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838080" y="8380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echnology Transf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048120" y="1291680"/>
            <a:ext cx="7238880" cy="22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5076720" y="4869000"/>
            <a:ext cx="3598920" cy="1465200"/>
          </a:xfrm>
          <a:prstGeom prst="wedgeRectCallout">
            <a:avLst>
              <a:gd name="adj1" fmla="val -70953"/>
              <a:gd name="adj2" fmla="val 4420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he transfer of systemat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knowledge for the manufactu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of a product or provi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of service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95280" y="6093000"/>
            <a:ext cx="403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 Regulation of United 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4T08:00:05Z</dcterms:created>
  <dc:creator>luyang</dc:creator>
  <dc:description/>
  <dc:language>en-US</dc:language>
  <cp:lastModifiedBy>richard</cp:lastModifiedBy>
  <cp:lastPrinted>2003-03-01T02:28:09Z</cp:lastPrinted>
  <dcterms:modified xsi:type="dcterms:W3CDTF">2010-11-22T09:46:28Z</dcterms:modified>
  <cp:revision>483</cp:revision>
  <dc:subject/>
  <dc:title>Knowledge Management</dc:title>
</cp:coreProperties>
</file>